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44AA-DE9C-46C2-993E-3BBDC606C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file:///E:/Curriculum_Resource_CD/Resources/Internet_Resources/Project-Based_Learning_Resources.htm" TargetMode="External"/><Relationship Id="rId2" Type="http://schemas.openxmlformats.org/officeDocument/2006/relationships/hyperlink" Target="file:///E:/Curriculum_Resource_CD/Resources/Internet_Resources/Login_Information.doc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Lista site-urilor de marca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etichetare se găseşte în directorul Resurse – Resurse Internet 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şi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roject-Based Learning Resources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şi a formularului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Login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hidare la intrarea pe blog si la completarea acestui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A1DB-1DEF-4513-A06B-2C65E14F7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1072-E693-49EB-A6D3-08FAA019B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2922-00CD-4B23-B93C-466135695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8D0E-C46E-4085-8C1A-6F6B8B271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A82E-925D-4005-B553-F5E25A0F8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9740-5E63-4917-950B-FD37E71AA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852C-1386-486A-B03A-AF2FBF00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BA59-5D18-4FCD-9F94-18BB02396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8A6E-7DF8-4884-88CC-26CD66BE9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D711-4511-4704-869D-E28FE70AA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79AF-CA61-4DE6-8E64-F109F6371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AB4F-D328-4BB1-A969-EACC0FB65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E25-31DA-4C0D-9886-5F4344BB10F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Predarea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182600"/>
            <a:ext cx="8469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 cadrul acestui curs veţi proiecta şi dezvolta resurse pentru unitatea de învăţare pe care 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rtofoliul dumneavoastră es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2756-C5A6-4401-9652-DD673D645C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6240" y="846000"/>
            <a:ext cx="45878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089B-0442-401B-9C82-0CA2F6C68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directorul Portofoliu 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e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liza revizuiri ale produselor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 creaţi împreună c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56080" y="257040"/>
            <a:ext cx="378792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7C59-CFF8-4F82-96F3-3E12A4781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704880"/>
            <a:ext cx="4287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urtătură pentru documentul „Star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lvaţi şablon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Unităţii de învăţare în 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lan_unitate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portofoliul dumneavoas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forma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de unitate de învăţare, revizui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pid diversele secţiuni şi notaţi descrierile în câmpurile a căr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re vă este solicitată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0 – 1.1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5734-7397-408D-85AB-DB49E1FD5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3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6EAE-3501-41AD-8D0C-C50007283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Învăţarea prin 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într-o arie tematică pri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arcini de lucru extin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omovează investigaţia, demonstraţii autentice 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duselor învăţării şi performanţel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legătura dintre obiectivele operaţionale ş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gândirea de nivel superior a elevilor cu contexte de viaţă real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nclu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strategii instrucţion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olaborează cu experţi din exterior sau cu membri ai comunităţ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hnologi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entru a sprijin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învăţ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diferite metod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CE2A-9C3A-4C30-8617-9C3F0A63AE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4760" y="1050840"/>
            <a:ext cx="84693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 parcurs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ui curs veţi realiza un Portofoliu de Unitate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parcurge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rmătoarelor etap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abilirea obiectivelor operaţional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a -i ajuta pe elevi să se axeze pe teme şi concepte importante care vizeaz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xiunile între discipline şi a acestora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3. Planificarea evaluări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demonstreze centrarea pe procesul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4. Activităţi de proiect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includă nevoile de învăţare ale elevilor, să fac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gătura cu lumea exterioară şi să includă activităţi care implică utilizarea tehnologie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F6BD-2CC6-4E52-862F-21A5FDA1BA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52720" y="177840"/>
            <a:ext cx="6191280" cy="54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93760" y="3672000"/>
            <a:ext cx="5056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tabelul de la pag.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A5F2-5147-4EC8-813B-3E73BA3663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. (1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CDA6-2B18-4A1B-A4C4-3331EF9876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790200"/>
            <a:ext cx="876924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istă de verificare a caracteristicilor proiect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se axează pe obiectivele operaţionale aliniate competenţelor specific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erformăr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priu-zise şi a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C5E5-DB01-49BF-8C8D-C4350E4EA5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ECB4-CE74-46A3-AC5F-815254208B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520" y="531360"/>
            <a:ext cx="8566200" cy="32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u toate unităţile de învăţare trebuie să includă un proiect, însă în momentul în c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a pe bază de proiect este adecvată, integrarea unui proiect poate stimul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ista nivele diferite ale modelării proiecte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82520" y="3784680"/>
            <a:ext cx="896148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Vizualizarea Portofoli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ale Unităţii Eşantion d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D-ul de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u vizualizaţi exemplele de pe site-ul web Intel® Education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aţi în considerare modul în care acest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DE2E-D34E-4953-9641-B9CBF0824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pentru a prezen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eptul de proiect unui public cum ar fi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ţi-v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astfel încât să răspundă întrebărilor pe care consideraţi că vi le vor adresa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u părinţii acestora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6F1C-DC6C-439B-88C2-A7ED777DD6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registraţi-vă pentru crearea unui cont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diigo.com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ific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ick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y Tool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ick dreapta pe pictogram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igol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i în funcţie de tipul de brows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5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et Explor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*: Add to favorites…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inks fold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5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zilla Firefox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*: Bookmark This Link…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Bookmarks Fold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folos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diigolet bookmarkle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marca, salva, adăuga notiţe sau transmite pe mail pagini web sau doar zonele selecta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F72C-7072-4509-9537-9E4F665382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şi etichetaţi paginile în care găsiţi resurse pentru proiectul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riei publicaţii (buletin informativ, ziar, broşură sau afiş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 pe CD-ul cu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656E-9E39-45B3-96CA-FB2C7AD389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template-urile din CD resurse (Modulul 1 – Acvtivitatea 5) sau de pe site pentru a alege varianta cea mai potrivită proiectulu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realiz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lvaţi cât mai des publicaţia în folder-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istenţă_unitat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3: Adăugarea elementelor de bază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i suplimen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7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modific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621-B330-40D4-8CE4-A28D66CDD1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8902-7C2E-49ED-AB12-DE5406EC2A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Introducerea opiniilor în 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2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traţi p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400" spc="-1" strike="noStrike">
                <a:solidFill>
                  <a:srgbClr val="f5e647"/>
                </a:solidFill>
                <a:latin typeface="Verdana"/>
              </a:rPr>
              <a:t>[enter URL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gaţi-vă cu user-name-ul şi parola ce vi s-au furniz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aţi asupra modului în care acest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dul v-a ajutat să vă creaţi şi să v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nificaţi Unitatea de învăţare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biectivele de referinţă şi să îşi dezvolte abilităţi le necesare în secolul XXI?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9376-EA28-4E9F-B6F0-DC005FF86C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ul 2: Vizarea abilităţilor de nivel superior şi cele necesare în secolul XXI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ilităţ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nivel superior şi cele necesare în secolul XX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lectaţi material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cum ar fi manuale, materiale de sprijin, aşteptările de la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B29D-E25F-4944-A7A1-6D739F22C3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E28-9740-405E-BCBD-9C8679763C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8157-59B7-428E-A119-DB535ADFE4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2840" y="739800"/>
          <a:ext cx="8470800" cy="271620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/ 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0FFB-4514-4DBB-BE76-1DA8E2E4BA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E063-9F8C-4292-A3B5-BC12BE07D8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4A22-1B6E-413F-885D-6A76BA6D2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Intel</a:t>
            </a:r>
            <a:r>
              <a:rPr b="1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Teach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– Predarea în societatea cunoaşteri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cadrele didactice să utilizeze tehnologiile IT în stimularea imaginaţiei elevilor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intermedi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sului veţi putea formula şi răspunde la întrebări cu privire la modalităţi eficiente de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iliza calculatoarele pentru îmbunătăţirea procesul de predare- învăţare. Întreb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de a crea un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tofoli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o unitate de învatare pe care apoi să îl utilizaţi la clasă pentru a 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ivelul de performanţă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206A-EB0C-46D2-8EBF-1F60CAED2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4440" y="660240"/>
          <a:ext cx="8701200" cy="262584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6000" y="3321000"/>
          <a:ext cx="8746920" cy="2625840"/>
        </p:xfrm>
        <a:graphic>
          <a:graphicData uri="http://schemas.openxmlformats.org/drawingml/2006/table">
            <a:tbl>
              <a:tblPr/>
              <a:tblGrid>
                <a:gridCol w="2874600"/>
                <a:gridCol w="5872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DC65-A587-4A55-B28D-02F1810FF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4440" y="546120"/>
          <a:ext cx="8701200" cy="297828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16000" y="3535200"/>
          <a:ext cx="8746920" cy="25527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76D1-0D65-414D-B9A8-E09250C2BF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44440" y="546120"/>
          <a:ext cx="8701200" cy="31939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ile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a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6000" y="3773520"/>
          <a:ext cx="8746920" cy="228924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t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5B4F-5989-4BFC-87CD-71A68E273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30193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67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2AD7-C0ED-4D74-9BE6-322C79A7FE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ilonela Rodica Balasa</cp:lastModifiedBy>
  <cp:lastPrinted>2006-11-14T00:45:04Z</cp:lastPrinted>
  <dcterms:modified xsi:type="dcterms:W3CDTF">2007-08-20T13:18:54Z</dcterms:modified>
  <cp:revision>155</cp:revision>
  <dc:subject/>
  <dc:title>Presentation Title Goes Here</dc:title>
</cp:coreProperties>
</file>